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2.png" ContentType="image/png"/>
  <Override PartName="/ppt/media/image10.png" ContentType="image/png"/>
  <Override PartName="/ppt/media/image5.wmf" ContentType="image/x-wmf"/>
  <Override PartName="/ppt/media/image6.gif" ContentType="image/gif"/>
  <Override PartName="/ppt/media/image17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1.gif" ContentType="image/gif"/>
  <Override PartName="/ppt/media/image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246-4070-4968-AD5C-AC33C2A4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C7F-E136-4913-BCC5-F34E62D7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AC634-0915-4337-B836-DD11917B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F9332-6603-4DD5-B345-991E461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E239D-AAA8-4ECA-9B2F-58C84DBD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1CF7B-15EE-48EB-AF69-28E36707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8D2BC-333B-4F8C-B097-18414B55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90EBA-232C-4190-96A8-82BB2DA3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EE65B-E8F8-4E94-B2E7-BA0381E0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57125-05E6-48CA-96C6-5BFC48FF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49B6A-94AE-4F6F-A341-13747CEA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9A59A-A240-4629-A9F1-7375A206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922-B68F-4F11-8415-80C2DCEF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D71CB-8B3B-4E5B-B637-9BFC50D2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64632-34FC-4ED0-AB6A-6954774C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804DA-D261-4711-998C-015E0439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44C56-7400-491F-9045-37B0DCA3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78A80-E8A1-49EE-8C7D-2A90FE6C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107ED-7F15-4A9C-9F34-F6085C84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9A3B1-23C8-47C8-AF0D-8F5634B0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54211-49B2-4647-9AD6-C8950AB5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C13D4-5057-49D0-926C-5F81E42A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276D9-8A16-4B69-B98D-174DFB8E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109-AEF3-4C40-9530-9F451718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238ED-902F-4649-815D-86D9159D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525B0-4C48-4DC1-9322-21A76C7A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B1A72-9BFE-42D7-B06A-C76AAEB2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02DA8-FAC7-40A0-9555-4AFAFD4A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489AC-613A-4EAC-B34B-5AFC3B84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D7FF6-AB1A-4661-8F22-21AE1033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34D03-8CCA-48E2-A598-0CAA88AF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6C7C5-F94E-408D-AE36-BC1170F1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4F301-014C-477A-B48A-2E7DAB38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88B03-3616-4304-9A0E-543CED8E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330D-ABC0-4B90-8A0F-3FE410A9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45D4B-E7D0-465A-81CB-37D68D17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396FA-6661-49D2-BE71-FFB27EF5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F093F-BF07-4E54-95A2-36A1B770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30094-54EB-4F9C-9185-20066D8B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A7628-C192-4422-AEA3-857AACE0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D2508-3033-40A0-BB42-B1BD4237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1CDA8-7FEE-4E2A-9DBB-716266C4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70BD0-1B41-49D8-8944-FCA9161A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9C2F1-280D-4CBC-8F43-37191C08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2FF69-B78A-43AE-8F35-CA057F0A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1821-10B9-4CD8-942A-87218273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BAD0A-1534-4B26-8DB8-92EBD22C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12AB4-1693-4F26-B688-42ACFCBD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00B11-E1CF-4FB7-B277-192E50F8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5F6AA-63CD-45D0-9E5D-99EF6A35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305F5-0E10-4332-96EB-CDB72052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D8E9E-211A-4241-9081-7D04EF49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61944-0D45-4ADA-B068-54EF3972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04936-8EC6-44B5-BFC1-51F0FD03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DD6CD-DA13-4FE4-8A07-ADE47FA5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279C1-055F-47A9-BC8B-90717BC5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7959-E457-4527-A136-600250B7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44596-0EAC-44A8-871D-23550BC2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5E3B3-5FE7-465F-8325-35B0E806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6593C-D404-48C7-B03A-2E7B473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BE71A-762A-4163-9DD0-27EC5715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572A0-7431-4D03-8003-297DDE01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88E86-C22F-4911-A4D8-E6F56A82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9F0D4-205B-499C-A15C-039D9525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0AD0-714D-4539-9E59-026261AC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BC39-7465-4090-8AEA-E5B89306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02DF-8525-43DA-AF3B-B8847C4B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9DF3-646A-4D0B-9A65-8027F62A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DD4-7C42-4A34-81ED-5D98AA41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BD64-A877-43EB-944B-6ECB28FD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6443-E020-4119-95B9-5EF98A3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572E-D59A-4D3E-AF96-FB0FD88D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493E-7ED2-4130-B8A3-85E49223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C5C-CA52-437D-90B8-35F79278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919B-2744-42CD-85BF-44507008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69F8-9849-49C2-B86C-EBBA2276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3BA0-E9F7-4EDC-92FC-ABC3F443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C2206-BB99-4F45-A883-69DEE4DC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A67E-5DE4-471B-B882-0776F34A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82F-38F3-4475-A27E-FFAB88A2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5980-E9B6-4A59-A366-97BE6294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6E1A-1327-414D-812E-F4BCF9A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FED4-733F-486B-9923-C1838B46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F945-0DE7-43F2-BA0D-42B3305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CAE2-0FF2-4FD6-B51A-47436B9E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15B5-831B-46FF-8371-52725F6A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4384-2428-4160-B1BE-093612FE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E045-1DCF-4E5F-9562-92CB62E0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7FCFF-6397-4885-9C8F-EBBE7B2B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A2058-A315-467E-8E65-8268AEAE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712-1967-4832-BB30-ABBB84D8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24B3C-AC9D-4B44-943C-6035E58A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C132-C76D-4036-98A8-163DBB5F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570C6-BC55-4E36-9DA4-4ECB4CE8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D1BB2-DBF2-460B-8AA1-3F8691D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15C1-7400-4FC2-A41E-F18CF024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C0CE7-E50D-4457-83D7-8A590D47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43A1-D8E2-4FD0-A794-73D94B42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EA79-D976-4D6C-BE75-B10B6137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68EC9-329E-4191-A792-8A32EB1B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9E497-B729-4D6D-AD3A-52A2C3EB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5F5-76FB-410F-88DB-9BF4F9F1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24324-CF4A-467E-92D6-532F83E9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1CA22-2E49-4B14-95DA-3F5B29C4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A26A5-8359-4BAC-8BEA-6594ED75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941F3-E4C4-4D21-9369-52D51D9D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D4A1A-43AE-46FF-83E2-0C09140D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9C799-FFC0-4A06-9F9F-18174DA0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2E5E8-5078-4DFF-8BE7-B2395D6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B7A68-9C8A-4B10-B641-2C5859A3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B09D-4252-43D2-A564-C182DB2A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9103B-597B-4677-8455-E1EC071C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975-0C51-444B-9D9F-8971A299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4A376-E91A-45A7-BB03-E9A1E48E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882F7-A667-4426-9FCB-07E158FC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54F9E-D26B-41AE-A161-B1990CB4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8D8DA-D775-4B57-AE12-2A50D4FB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4435D-45E6-4144-8F85-408A09CF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096FF-4FC5-4EF8-B07E-5100857E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1DD8-D9E5-469A-8B57-E30F526B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A4ADD-DE46-4419-8CFF-EA04D8F7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7F37C-9617-40B5-862F-C7303077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6D517-4367-47B3-B7DB-049B041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F82-BE68-484A-99A9-F40F34F9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3C8EF-090C-4009-B595-F59E7F72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81FC7-0692-4724-A3A1-622A3BDF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79FD2-1A6B-4D86-A719-112E25C4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F82E9-4B4C-42C7-A9FD-96A3FBBB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2CB0C-8538-46E8-844F-481556BC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1024F-E610-4433-ACFF-91B9291B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2C763-A5D7-43CA-926F-50A5EB6F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F9606-7AE6-4EA1-BFBB-B589F964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E070B-2F85-4466-9B13-9B55E74A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E1A8E-429E-416F-9469-18ED76B6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2F5-0F27-4BB4-99E5-22B533D4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D70FF-66D6-45B5-A03F-D0FD3F56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BE7BF-6037-41ED-91A2-C8044D40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99AD1-49BA-4DEB-B9A7-AB2FDC32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7BE4B-F73F-46E7-96CF-55AC1155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30718-7B02-49C8-A85F-16EF4348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96A04-43CA-43D4-B630-7E31CBB2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DEDC5-04B8-4D32-B0CD-EEB28EAB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6651E-085C-408F-806D-63B6AF09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D80A5-EFC3-4728-A4E9-9D3D893C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08505-CF8D-40F2-8A0F-CE8D3130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4D9-B9F6-4AC7-87D3-7FEFD69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E6C0B-FD8B-4BE6-9A87-A11E8F7C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A46CA-8DF8-4321-B3DA-FFA7D5D0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60F33-C1F5-4DFF-A0C4-DC10535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9E907-5662-4B76-A7E6-C60843AC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2E5D5-8324-498F-BCD9-149425F8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6A5ED-6612-4CA1-AA50-8E05AE88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C9B6B-7669-4E78-B57B-024CD9AB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31E10-4DA7-4C41-B934-71B5F44E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DF9F6-0F37-46B1-9683-0789F34D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2CF74-A566-465E-9A51-85832B94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A2EE-D018-42FF-BEC1-E6CBD2D10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56C0-37A5-405B-984F-591AAA1B7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1027-9730-4854-BA1E-DAE633E06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EE74-C377-403D-9B04-EE998C4DC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CF92-98D8-43F6-B264-2A62C2014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E467-AD7F-4244-8784-9021CA742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84CA-DB60-47B7-9596-740472C0C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A4F2-7A1D-4ACB-9815-B61342ED8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EBA6-A1C2-45FF-AE1D-D7181A26E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C051-59E9-433B-B487-66128C2C8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3AFF-A736-418E-8234-BE98AF9EC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020D-3FBB-4B96-B478-5BFD60AF3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F40B-ACD9-44C8-A34B-3AA95555B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rspmartin.wikispace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ahoo.com/" TargetMode="External"/><Relationship Id="rId2" Type="http://schemas.openxmlformats.org/officeDocument/2006/relationships/hyperlink" Target="http://www.bing.com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ask.com/" TargetMode="External"/><Relationship Id="rId5" Type="http://schemas.openxmlformats.org/officeDocument/2006/relationships/hyperlink" Target="http://www.dogpile.com/" TargetMode="External"/><Relationship Id="rId6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bishop.html" TargetMode="Externa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Sa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9" name="WordArt 4"/>
          <p:cNvSpPr txBox="1"/>
          <p:nvPr/>
        </p:nvSpPr>
        <p:spPr>
          <a:xfrm>
            <a:off x="2362320" y="914400"/>
            <a:ext cx="464796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th Grad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0" name="Picture 5" descr="crankylibrarian"/>
          <p:cNvPicPr/>
          <p:nvPr/>
        </p:nvPicPr>
        <p:blipFill>
          <a:blip r:embed="rId1"/>
          <a:stretch/>
        </p:blipFill>
        <p:spPr>
          <a:xfrm>
            <a:off x="152280" y="1143000"/>
            <a:ext cx="1689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slides for a Microsoft PowerPoint presentation using Internet resour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6" name="Picture 4" descr="j0232092"/>
          <p:cNvPicPr/>
          <p:nvPr/>
        </p:nvPicPr>
        <p:blipFill>
          <a:blip r:embed="rId1"/>
          <a:stretch/>
        </p:blipFill>
        <p:spPr>
          <a:xfrm>
            <a:off x="0" y="2819520"/>
            <a:ext cx="251136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3"/>
          <p:cNvSpPr/>
          <p:nvPr/>
        </p:nvSpPr>
        <p:spPr>
          <a:xfrm>
            <a:off x="0" y="20160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8" name="Text Box 4"/>
          <p:cNvSpPr/>
          <p:nvPr/>
        </p:nvSpPr>
        <p:spPr>
          <a:xfrm>
            <a:off x="380880" y="114300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and"/>
                <a:ea typeface="Times New Roman"/>
              </a:rPr>
              <a:t>Create Paint document using a tool palette; edit, save, and insert into Word or PowerPoint documen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29" name="Object 5"/>
          <p:cNvGraphicFramePr/>
          <p:nvPr/>
        </p:nvGraphicFramePr>
        <p:xfrm>
          <a:off x="6019920" y="3352680"/>
          <a:ext cx="16002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352680"/>
                    <a:ext cx="16002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rious spreadsheets in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Microsoft Excel enter valu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els,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formulas, and crea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a graph from dat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32" name="Object 4"/>
          <p:cNvGraphicFramePr/>
          <p:nvPr/>
        </p:nvGraphicFramePr>
        <p:xfrm>
          <a:off x="5029200" y="3352680"/>
          <a:ext cx="4114800" cy="22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352680"/>
                    <a:ext cx="411480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4" name=""/>
          <p:cNvGraphicFramePr/>
          <p:nvPr/>
        </p:nvGraphicFramePr>
        <p:xfrm>
          <a:off x="0" y="-1676520"/>
          <a:ext cx="8991720" cy="632628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660680"/>
                <a:gridCol w="1693800"/>
                <a:gridCol w="228456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io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ay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rch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pril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y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June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Baer, Jos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rowley, Pau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Howell, Meg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Lagam, Me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harr, Sloa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ousa, Be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eam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B5:B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C5:C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D5:D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E5:E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1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eam Aver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B5:B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C5:C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D5:D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E5:E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a Microsoft Access databas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edit, sort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mat and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creat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els, etc.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rcRect l="11669" t="21110" r="19170" b="155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Microsoft Publisher docume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9" name="Picture 4" descr="j0215217"/>
          <p:cNvPicPr/>
          <p:nvPr/>
        </p:nvPicPr>
        <p:blipFill>
          <a:blip r:embed="rId1"/>
          <a:stretch/>
        </p:blipFill>
        <p:spPr>
          <a:xfrm>
            <a:off x="5943600" y="3962520"/>
            <a:ext cx="1976400" cy="20336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5" descr="j0285636"/>
          <p:cNvPicPr/>
          <p:nvPr/>
        </p:nvPicPr>
        <p:blipFill>
          <a:blip r:embed="rId2"/>
          <a:stretch/>
        </p:blipFill>
        <p:spPr>
          <a:xfrm>
            <a:off x="380880" y="533520"/>
            <a:ext cx="1814760" cy="16048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6" descr="j0238147"/>
          <p:cNvPicPr/>
          <p:nvPr/>
        </p:nvPicPr>
        <p:blipFill>
          <a:blip r:embed="rId3"/>
          <a:stretch/>
        </p:blipFill>
        <p:spPr>
          <a:xfrm>
            <a:off x="3352680" y="533520"/>
            <a:ext cx="2549520" cy="16412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7" descr="MCj02868330000[1]"/>
          <p:cNvPicPr/>
          <p:nvPr/>
        </p:nvPicPr>
        <p:blipFill>
          <a:blip r:embed="rId4"/>
          <a:stretch/>
        </p:blipFill>
        <p:spPr>
          <a:xfrm>
            <a:off x="1676520" y="3962520"/>
            <a:ext cx="155556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Save and retrieve information appropriately from personal folder or web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4" name="Picture 4" descr="j0237458"/>
          <p:cNvPicPr/>
          <p:nvPr/>
        </p:nvPicPr>
        <p:blipFill>
          <a:blip r:embed="rId1"/>
          <a:stretch/>
        </p:blipFill>
        <p:spPr>
          <a:xfrm>
            <a:off x="5257800" y="4191120"/>
            <a:ext cx="2478240" cy="22190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5" descr="j0285456"/>
          <p:cNvPicPr/>
          <p:nvPr/>
        </p:nvPicPr>
        <p:blipFill>
          <a:blip r:embed="rId2"/>
          <a:stretch/>
        </p:blipFill>
        <p:spPr>
          <a:xfrm>
            <a:off x="1219320" y="32004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Box 1"/>
          <p:cNvSpPr/>
          <p:nvPr/>
        </p:nvSpPr>
        <p:spPr>
          <a:xfrm>
            <a:off x="304920" y="380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Use free downloadable software and  web 2.0 tools  when appropriate to enhance learning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Box 2"/>
          <p:cNvSpPr/>
          <p:nvPr/>
        </p:nvSpPr>
        <p:spPr>
          <a:xfrm>
            <a:off x="1295280" y="380880"/>
            <a:ext cx="6782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cratch – animation progra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udacity – Sound Recorder – maximum of 8 overlapping soun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x Type/Pai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ogl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th – virtual 3 D map of Ear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cs  - offer free use of word processing, spreadsheet and  presentation  software (only for students with email addres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Box 1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e5"/>
                </a:solidFill>
                <a:latin typeface="Arial"/>
                <a:ea typeface="Arial"/>
              </a:rPr>
              <a:t>Visit my website a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  <a:hlinkClick r:id="rId1"/>
              </a:rPr>
              <a:t>http://mrspmartin.wikispaces.com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2" name="Picture 4" descr=""/>
          <p:cNvPicPr/>
          <p:nvPr/>
        </p:nvPicPr>
        <p:blipFill>
          <a:blip r:embed="rId2"/>
          <a:srcRect l="0" t="0" r="10982" b="0"/>
          <a:stretch/>
        </p:blipFill>
        <p:spPr>
          <a:xfrm>
            <a:off x="0" y="1295280"/>
            <a:ext cx="9144000" cy="577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e and reinforc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sic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kill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Learn about search engines on the Internet to narrow down a topic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685800" y="83808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1"/>
              </a:rPr>
              <a:t>Yaho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1" name="Text Box 5"/>
          <p:cNvSpPr/>
          <p:nvPr/>
        </p:nvSpPr>
        <p:spPr>
          <a:xfrm>
            <a:off x="2590920" y="609480"/>
            <a:ext cx="32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2"/>
              </a:rPr>
              <a:t>B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2" name="Text Box 6"/>
          <p:cNvSpPr/>
          <p:nvPr/>
        </p:nvSpPr>
        <p:spPr>
          <a:xfrm>
            <a:off x="3124080" y="1828800"/>
            <a:ext cx="2667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3"/>
              </a:rPr>
              <a:t>Goog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3" name="Text Box 9"/>
          <p:cNvSpPr/>
          <p:nvPr/>
        </p:nvSpPr>
        <p:spPr>
          <a:xfrm>
            <a:off x="6095880" y="1143000"/>
            <a:ext cx="190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4"/>
              </a:rPr>
              <a:t>Askjee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4" name="Text Box 10"/>
          <p:cNvSpPr/>
          <p:nvPr/>
        </p:nvSpPr>
        <p:spPr>
          <a:xfrm>
            <a:off x="5029200" y="5410080"/>
            <a:ext cx="228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5"/>
              </a:rPr>
              <a:t>Dogpi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Investigate the validity of information presented in Web sit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ite references from electronic sour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7" name="Line 11"/>
          <p:cNvSpPr/>
          <p:nvPr/>
        </p:nvSpPr>
        <p:spPr>
          <a:xfrm flipH="1">
            <a:off x="6248160" y="13716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58" name="Group 13"/>
          <p:cNvGrpSpPr/>
          <p:nvPr/>
        </p:nvGrpSpPr>
        <p:grpSpPr>
          <a:xfrm>
            <a:off x="533520" y="609480"/>
            <a:ext cx="7619400" cy="2577960"/>
            <a:chOff x="533520" y="609480"/>
            <a:chExt cx="7619400" cy="2577960"/>
          </a:xfrm>
        </p:grpSpPr>
        <p:sp>
          <p:nvSpPr>
            <p:cNvPr id="1159" name="Rectangle 4"/>
            <p:cNvSpPr/>
            <p:nvPr/>
          </p:nvSpPr>
          <p:spPr>
            <a:xfrm>
              <a:off x="1461240" y="1523880"/>
              <a:ext cx="6128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emelson-MIT Program,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Hazel Bishop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, January 18, 200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99"/>
                  </a:solidFill>
                  <a:uFillTx/>
                  <a:latin typeface="Comic Sans MS"/>
                  <a:hlinkClick r:id="rId1"/>
                </a:rPr>
                <a:t>http://web.mit.edu/invent/iow/bishop.html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0" name="Text Box 5"/>
            <p:cNvSpPr/>
            <p:nvPr/>
          </p:nvSpPr>
          <p:spPr>
            <a:xfrm>
              <a:off x="533520" y="609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Corporation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1" name="Text Box 6"/>
            <p:cNvSpPr/>
            <p:nvPr/>
          </p:nvSpPr>
          <p:spPr>
            <a:xfrm>
              <a:off x="4190760" y="76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title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2" name="Text Box 7"/>
            <p:cNvSpPr/>
            <p:nvPr/>
          </p:nvSpPr>
          <p:spPr>
            <a:xfrm>
              <a:off x="6172200" y="99036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Dat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accessed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3" name="Text Box 8"/>
            <p:cNvSpPr/>
            <p:nvPr/>
          </p:nvSpPr>
          <p:spPr>
            <a:xfrm>
              <a:off x="2514600" y="2819160"/>
              <a:ext cx="28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Internet addres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4" name="Line 9"/>
            <p:cNvSpPr/>
            <p:nvPr/>
          </p:nvSpPr>
          <p:spPr>
            <a:xfrm>
              <a:off x="1676160" y="990360"/>
              <a:ext cx="68544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5" name="Line 10"/>
            <p:cNvSpPr/>
            <p:nvPr/>
          </p:nvSpPr>
          <p:spPr>
            <a:xfrm>
              <a:off x="4572000" y="10666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6" name="Line 12"/>
            <p:cNvSpPr/>
            <p:nvPr/>
          </p:nvSpPr>
          <p:spPr>
            <a:xfrm flipV="1">
              <a:off x="3352680" y="2285640"/>
              <a:ext cx="53316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The knowledge gained from these objectives will be used in student created projects and presentation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tudents will apply these principles to other subject areas. We want to make computers an enjoyable learning experience for all student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Students are expected to follow the classroom expectations a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viously reviewed in class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9" name="Picture 4" descr="j0311866"/>
          <p:cNvPicPr/>
          <p:nvPr/>
        </p:nvPicPr>
        <p:blipFill>
          <a:blip r:embed="rId1"/>
          <a:stretch/>
        </p:blipFill>
        <p:spPr>
          <a:xfrm>
            <a:off x="3581280" y="4724280"/>
            <a:ext cx="18147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uter Education</a:t>
            </a:r>
            <a:br>
              <a:rPr sz="4000"/>
            </a:br>
            <a:br>
              <a:rPr sz="40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Teach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Mrs. Marti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4" name="Rectangle 3"/>
          <p:cNvSpPr/>
          <p:nvPr/>
        </p:nvSpPr>
        <p:spPr>
          <a:xfrm>
            <a:off x="2743200" y="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isit my website a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ttp://mrspmartin.wikispaces.co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22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The Following Objectives Will Be Covered This Year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304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Complete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yping </a:t>
            </a:r>
            <a:br>
              <a:rPr sz="40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to a level later to be determin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7" name="j0289582.jpg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5084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9" name="Picture 3" descr=""/>
          <p:cNvPicPr/>
          <p:nvPr/>
        </p:nvPicPr>
        <p:blipFill>
          <a:blip r:embed="rId1"/>
          <a:srcRect l="18336" t="17778" r="18336" b="17778"/>
          <a:stretch/>
        </p:blipFill>
        <p:spPr>
          <a:xfrm>
            <a:off x="304920" y="114480"/>
            <a:ext cx="8610480" cy="65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2"/>
          <p:cNvSpPr/>
          <p:nvPr/>
        </p:nvSpPr>
        <p:spPr>
          <a:xfrm>
            <a:off x="0" y="83808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and"/>
                <a:ea typeface="Times New Roman"/>
              </a:rPr>
              <a:t>Become acquainted with ribbons in Microsoft Word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Microsoft Word </a:t>
            </a:r>
            <a:br>
              <a:rPr sz="4400"/>
            </a:b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processing docume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following </a:t>
            </a:r>
            <a:br>
              <a:rPr sz="4400"/>
            </a:b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specific written directions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2" name="Picture 4" descr="MCj02325870000[1]"/>
          <p:cNvPicPr/>
          <p:nvPr/>
        </p:nvPicPr>
        <p:blipFill>
          <a:blip r:embed="rId1"/>
          <a:stretch/>
        </p:blipFill>
        <p:spPr>
          <a:xfrm>
            <a:off x="5181480" y="3505320"/>
            <a:ext cx="338148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PowerPoi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lide show using toolbars, inserting textboxes, pictures, and formatting slid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4" name="Picture 6" descr="j0283804"/>
          <p:cNvPicPr/>
          <p:nvPr/>
        </p:nvPicPr>
        <p:blipFill>
          <a:blip r:embed="rId1"/>
          <a:stretch/>
        </p:blipFill>
        <p:spPr>
          <a:xfrm>
            <a:off x="4724280" y="4191120"/>
            <a:ext cx="1943280" cy="17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6:57:03Z</dcterms:created>
  <dc:creator>PMartin</dc:creator>
  <dc:description/>
  <dc:language>en-US</dc:language>
  <cp:lastModifiedBy>Patricia Martin</cp:lastModifiedBy>
  <dcterms:modified xsi:type="dcterms:W3CDTF">2012-08-20T01:32:50Z</dcterms:modified>
  <cp:revision>32</cp:revision>
  <dc:subject/>
  <dc:title>     </dc:title>
</cp:coreProperties>
</file>